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0144-D5FE-4AA1-888E-821800BF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09FD-A103-4123-903B-80575B1C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15DE-F26B-44DD-92EF-0CC92000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D52D-AB7B-45F3-A8E3-AD7A4F4E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0E40-C367-4FFD-82A4-A0BC7F82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3C89-399B-4C73-B866-EE2C832B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90BA-239A-4487-8DD3-80388B70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0A13-B501-462F-B134-4280981A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F38C-D7C8-4390-A6A2-99EFD451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083E-617E-4AFF-A066-7D7E205A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4E27-5D1E-44B1-98F9-67AA74BF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5904-7601-4F36-9798-32775B3B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812B-F8C0-4872-9773-655BBE8E9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53452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4956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 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4876920"/>
            <a:ext cx="6858000" cy="307080"/>
            <a:chOff x="0" y="4876920"/>
            <a:chExt cx="6858000" cy="307080"/>
          </a:xfrm>
        </p:grpSpPr>
        <p:sp>
          <p:nvSpPr>
            <p:cNvPr id="44" name=""/>
            <p:cNvSpPr/>
            <p:nvPr/>
          </p:nvSpPr>
          <p:spPr>
            <a:xfrm>
              <a:off x="0" y="487692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28600" y="4876920"/>
              <a:ext cx="472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t and discard this bottom portion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600200" y="304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304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853452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02920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tl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5410080"/>
            <a:ext cx="6858000" cy="307080"/>
            <a:chOff x="0" y="5410080"/>
            <a:chExt cx="6858000" cy="307080"/>
          </a:xfrm>
        </p:grpSpPr>
        <p:sp>
          <p:nvSpPr>
            <p:cNvPr id="51" name=""/>
            <p:cNvSpPr/>
            <p:nvPr/>
          </p:nvSpPr>
          <p:spPr>
            <a:xfrm>
              <a:off x="0" y="541008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8600" y="5410080"/>
              <a:ext cx="472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t and discard this bottom portion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853452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5627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tl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0" y="5943600"/>
            <a:ext cx="6858000" cy="307080"/>
            <a:chOff x="0" y="5943600"/>
            <a:chExt cx="6858000" cy="307080"/>
          </a:xfrm>
        </p:grpSpPr>
        <p:sp>
          <p:nvSpPr>
            <p:cNvPr id="56" name=""/>
            <p:cNvSpPr/>
            <p:nvPr/>
          </p:nvSpPr>
          <p:spPr>
            <a:xfrm>
              <a:off x="0" y="594360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600" y="5943600"/>
              <a:ext cx="472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t and discard this bottom portion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853452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0958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tl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6477120"/>
            <a:ext cx="6858000" cy="307080"/>
            <a:chOff x="0" y="6477120"/>
            <a:chExt cx="6858000" cy="307080"/>
          </a:xfrm>
        </p:grpSpPr>
        <p:sp>
          <p:nvSpPr>
            <p:cNvPr id="61" name=""/>
            <p:cNvSpPr/>
            <p:nvPr/>
          </p:nvSpPr>
          <p:spPr>
            <a:xfrm>
              <a:off x="0" y="647712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8600" y="6477120"/>
              <a:ext cx="472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t and discard this bottom portion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853452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62940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tl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0" y="7010280"/>
            <a:ext cx="6858000" cy="307080"/>
            <a:chOff x="0" y="7010280"/>
            <a:chExt cx="6858000" cy="307080"/>
          </a:xfrm>
        </p:grpSpPr>
        <p:sp>
          <p:nvSpPr>
            <p:cNvPr id="66" name=""/>
            <p:cNvSpPr/>
            <p:nvPr/>
          </p:nvSpPr>
          <p:spPr>
            <a:xfrm>
              <a:off x="0" y="701028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8600" y="7010280"/>
              <a:ext cx="472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t and discard this bottom portion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853452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71629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tle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0" y="7543800"/>
            <a:ext cx="6858000" cy="307080"/>
            <a:chOff x="0" y="7543800"/>
            <a:chExt cx="6858000" cy="307080"/>
          </a:xfrm>
        </p:grpSpPr>
        <p:sp>
          <p:nvSpPr>
            <p:cNvPr id="71" name=""/>
            <p:cNvSpPr/>
            <p:nvPr/>
          </p:nvSpPr>
          <p:spPr>
            <a:xfrm>
              <a:off x="0" y="754380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8600" y="7543800"/>
              <a:ext cx="472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t and discard this bottom portion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853452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76960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tle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0" y="8077320"/>
            <a:ext cx="6858000" cy="307080"/>
            <a:chOff x="0" y="8077320"/>
            <a:chExt cx="6858000" cy="307080"/>
          </a:xfrm>
        </p:grpSpPr>
        <p:sp>
          <p:nvSpPr>
            <p:cNvPr id="76" name=""/>
            <p:cNvSpPr/>
            <p:nvPr/>
          </p:nvSpPr>
          <p:spPr>
            <a:xfrm>
              <a:off x="0" y="807732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8600" y="8077320"/>
              <a:ext cx="472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t and discard this bottom portion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853452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822960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tle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0" y="8610480"/>
            <a:ext cx="6858000" cy="307080"/>
            <a:chOff x="0" y="8610480"/>
            <a:chExt cx="6858000" cy="307080"/>
          </a:xfrm>
        </p:grpSpPr>
        <p:sp>
          <p:nvSpPr>
            <p:cNvPr id="81" name=""/>
            <p:cNvSpPr/>
            <p:nvPr/>
          </p:nvSpPr>
          <p:spPr>
            <a:xfrm>
              <a:off x="0" y="861048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8600" y="8610480"/>
              <a:ext cx="472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t and discard this bottom portion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87472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tle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7:44:39Z</dcterms:created>
  <dc:creator>jholland</dc:creator>
  <dc:description/>
  <dc:language>en-US</dc:language>
  <cp:lastModifiedBy>jholland</cp:lastModifiedBy>
  <dcterms:modified xsi:type="dcterms:W3CDTF">2006-03-21T18:57:49Z</dcterms:modified>
  <cp:revision>3</cp:revision>
  <dc:subject/>
  <dc:title>Slide 1</dc:title>
</cp:coreProperties>
</file>